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93B-CD2C-4570-99DC-575250B2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818-C70D-439B-A9D3-B67FAC2A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8B542-407E-4989-83D3-FD821D3C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49502-BA08-4E98-96F2-6E0A47F0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0433D-62ED-4F6B-8E41-9DDBC108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56ACF-5D3F-4808-9FFF-20DD3CDE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61078-938C-43B6-9C1C-BB07FC59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18719-B611-4BCC-A19E-0F0407B9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BA16F-77DC-4615-AB77-D30779A3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1E7A6-9050-4E19-AACC-B4F4EFAE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07EAA-9D4B-4C99-A4EF-BEAC2374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AEC44-E666-4613-860C-66E9FCFE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245-451E-4840-A687-06E43ACF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90EC5-3507-4B3B-9AE8-B516C479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A99E0-2B83-4685-B997-8449DC13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0F3A8-EB68-4F03-A2B5-09DE0405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A7DBC-9A75-4CA6-A8D3-652E68CA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3A1F3-53AA-4A72-93D2-9DA1CD66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59B02-986A-450B-AB6F-AE0E860E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9A4FE-ADEC-47A9-8280-23664B1A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73A88-B2CC-4AD5-8405-C69664DC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9B907-26B5-4AC1-B731-CE86B70A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0EF28-9488-48A3-A09C-7C4DA77B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37C-590A-4190-BE02-2F7CE8F3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6DE2C-7FDF-4D3D-A1C7-9A6BFE7F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E3A19-0877-46EC-AAE0-5947085A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78A88-C1BD-429B-9F87-EDA1C6C2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B70B7-965D-479E-A0F7-D667AADE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47B7F-4465-41FE-A7D8-90F4AD26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B18D3-8500-401F-81D2-0DC153FE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2EC1A-D5F5-4056-BB9A-1500102F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5C858-2A8C-4C16-B7A3-E5303CB8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46882-08FA-493F-A951-9FBBF953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320A6-A266-46F6-85F0-5359EC4C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2C22-7F9A-4E90-83E2-A35911A4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45E3E-A21B-48D5-A51D-6F9821D7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9CA75-7985-4136-BDDC-478F7457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EBB71-3367-483B-BEC7-97CABBCF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6B425-8B51-47B4-92FF-3BEBAB0F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564B9-2517-483F-A475-E757FC47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3E98A-75F9-4385-82E1-6DD64E34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B8485-9653-45E7-AD35-5D875AA4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F0F4C-BD5E-4B1E-8E6B-2440DEE9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F5659-7ABC-4B71-A087-8E5913D3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E4DE1-716C-4D7F-AB5A-F289381C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3D31-F240-4C50-B445-D8EBDB90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148E4-E712-4030-8B83-C6FA3018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E7387-00C2-4734-B7B8-8D67598B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B6F32-C6A1-409C-93DE-459A9B35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43CB7-BDAC-4C9E-B1AF-ABC12C12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9160F-1C94-4BEE-9921-4DC600C7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DEC77-214D-46A4-8BDB-CCDD55FE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FE6B2-E2A9-4CCC-9CBC-57E14D26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C363B-504A-4D17-A303-598E131B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4A675-25FE-405C-ABA1-22BA5475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6DE71-221F-41D0-ABCE-5554FBA5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438E-1707-4364-AFBB-F0D08006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460B1-20D5-4177-BE5D-7ECF987A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4664C-B082-41D1-A21A-C7B7520A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12892-C014-4FF2-B118-B5FF9F04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4DDDE-C274-41A6-AB57-B7DE6D39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3145B-535C-4B86-A4A9-5701CB64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331C7-F3FE-41B1-B8BE-A54EFBD2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0A8CE-6F59-4222-B973-8F50625D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86F6D-3FC8-4C2F-9968-6A2AFC09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CAC72-659C-426F-B9DE-AB83790A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C8F47-18B7-4E21-9226-CF2CD1D9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9EB3-727F-4136-86B2-4F9F2AED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69078-8B6D-4FF7-8113-29F60E61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55D69-C147-405F-9F26-B2177935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1238B-1DC0-47A9-9F84-335A7218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B1141-E648-4586-A4B1-960BAA30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C30892-E852-490F-AB2A-E90C6D54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B2320-E5DA-4519-B93E-68321085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9318D-FED7-4896-8197-A27D311D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FD8C7-F894-459E-8494-5C018C30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5CDB3E-666A-4E7A-94C4-414C4A0A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F1BD4-D656-4BFA-BD94-BF474EAD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DF58-0088-4358-BF1D-0803B401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B76B4A-9479-4C41-BA2C-8DB49B72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396557-E019-422B-B8AB-83D7F758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076A5-CA8C-4AEC-B9DA-17EF1BDB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7A6EDC-5492-4E6F-976E-82CD2BCA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BF10E8-6FD7-4AC5-8E78-3A8A24D3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AF698-A161-4079-861F-09789832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DE62B1-9678-4909-B426-412184A6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75B6FC-8465-46B7-AC3E-D338EFC5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40D4B-9730-4205-B05F-974A6988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D2523-5CA5-407D-86BD-5D881ABF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88C5-EF2E-4598-899F-5CE05AE9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636A1-26D1-4C1C-B6BD-0C877E13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A5C989-8371-4109-B8D7-1D5747BD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6AE10D-67A4-4DCA-988E-20938C65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77FAB-C920-4E2C-B2BA-829B9BF9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B4101D-02C8-4EEC-B233-97E3F045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1AFF79-3648-419A-AF89-28F653CD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A26C0-39B0-4012-9D92-56104D24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E92B68-CB20-406F-A235-C1CAEDB2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690D3-4B5E-4342-B880-28688025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DF9A5-4FFE-4C43-8CB5-AE9F455C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EB7B-0DD6-4872-B86A-14FE3812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48162-725A-4BE0-981D-EDE7DF09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B9539-A14F-4113-B162-1BF7FADB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57244-2BAB-4E36-9130-A8138F0F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9D9EC-F040-4705-86A9-A7D6EFF6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6054D-6017-4C51-997F-C55F0AB2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6A922-478A-4F68-90A5-1B6D4EEB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CE361-051E-491C-BCB7-7B0B5960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F3ED34-9F53-4B31-B39B-EE789685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08B88-46C8-4733-AB69-36EB895B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C73D57-B1D7-4491-9DCE-3E79A6C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27C-E538-4DB8-AAF2-2690163C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CC5A-2608-4E88-824B-1FE608D2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63C40C-13B5-462C-B772-B6E54DCA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1FAF6-EF65-4E5E-B475-DC332E7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AF9FF-4F5D-4887-8683-CBCF5E1F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E4F825-C628-4EE2-8282-8E4A2D74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30B45-35AD-4B7D-9149-EB3C38DB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A93961-22C4-4537-B2F1-2C05477D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4A226-D637-4D43-A43D-0CB66E04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3EC463-0705-48D8-B740-7BE38806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5D639-E3B2-4B88-B717-1DE806BC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92402-458A-4A8A-90A3-BFEF70DD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978C-0384-49EF-BF43-09410915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BBFFD0-2C8C-4286-BC93-0F4C360B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C9064-C061-4261-AA6A-E1C08053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F6BF7-971B-453C-9FF1-F4A5B097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CDCCC9-7981-4A77-9C58-4FE5D40A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61208-9800-41F6-B818-86780EB9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593190-023A-43EB-84C2-D8D81DCF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C11B7-FFA1-427D-B05F-AE6346AE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EEE3A-EC57-414E-9E1F-4DD7AEBD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39009F-0659-4FAE-AF07-1FC61D56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6EF75-5179-4AA3-BEA7-3E50B10B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D78B-69BE-482F-8CA7-BCC574AA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289182-B838-4C40-9DFB-A1E00315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BB966C-1E3E-4AC3-92AD-C6BBBDCA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7C13B-CCAA-4D33-867C-CCC43E0A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114BDD-62C4-425E-9038-D0E40C9A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E93644-98E4-4FE8-99E2-F44AAA10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E82517-B2F9-4203-8FE2-09582827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67BEC0-6586-4DCA-83BC-92FA4876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2234B6-8D3F-4EC3-A745-7B94A8B7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105F52-5725-446A-A131-18C1AC18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29E4D2-079E-4D9D-A930-77B298D0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97DD-DA38-4749-AA8F-450C4717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2B0EB7-E4E2-4D61-8898-8326FCA6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A5C2A8-629F-4167-AD0A-709A208B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A0C302-2413-4104-AFB9-FD668F37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225672-4F7D-45F4-B4D8-2DE4A41D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B9C07F-A805-4FAF-89AA-46C1E7EA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3BAB74-1036-4148-9F70-8E830422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FF3BCF-E780-4B1C-A054-77D1AFEA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2D02B-1D5F-48CE-8D45-9D252B77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F045E1-3966-44B2-99CF-049BC513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286F5C-D159-467B-853F-77B1F7F8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9779-9F2C-423A-95C3-3BE9CD8D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3DB1A5-937D-472C-968B-7F7BFCD4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9C703E-0A10-4295-807C-B6040D72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419806-23C7-4F2D-8AB4-6592344A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84F5C2-CFB6-4F7D-B465-66585EA9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32925D-645C-4D74-9D35-95D98B57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69AE59-708D-42D7-BF58-77AC70D9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795C06-076D-47F4-B296-73F5CAE9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0FEDCE-9C0B-42C9-8CAF-C7D32AEB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B8EF0-C82E-4DBE-A9A0-3CD9B5B6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BDB588-331D-4CDB-942F-3A5BAAD9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84E8-3F32-4791-A521-494D0F4C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4D2A6F-5D8E-4E9C-90CE-F108B9E2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38467D-BBDA-4407-A1B9-6E957977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1ABE8-5442-4F6C-8905-CB7AC0A5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C247-87DC-4EFB-B152-FD945E2A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9771D-D34C-4769-B084-9A7A0A67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16908-CE69-4D3E-A3AC-EBF4717F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CFAAC-CC01-477B-91E3-AED1FA9B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4DF-FA31-4A68-A99F-42C1BFA8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712D-6E9F-4ED4-8EC4-48420276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7E57-2436-4410-A0B2-2E7AB3AE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C1AA-9F0C-4062-A892-9E51C9A8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614E0-FEDD-4BAD-8DC9-37D420C5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3231-BA65-4484-8646-D6D73D9D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1F73-784E-4C77-A980-5397FA99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EEF3C-0CDF-4DA6-A702-88E8F596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8733E-C542-4EB9-8D8E-B84B4FEB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BAF33-A104-4DE5-A612-D7BC0C3C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957CE-A752-4B7A-B23A-1F7DA86A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0B6-DB16-4899-97BB-89A393BA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0CAEB-EC77-4DFC-9123-569560C8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CF7F2-7524-466E-BA42-2BA18601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0659E-4B3A-4E7A-B485-AF63C133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CF31-7F85-47BB-8DA0-A845D41D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C8A97-A08F-4236-BE15-BEB09809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0605-7C06-41EE-8E23-78DEFAE8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CC1DB-8DF8-4473-8274-2F29FD42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3D77-D89A-439D-AF1A-F478EAD0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B2D16-F0CB-4DE9-A3D1-75F17381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14525-B85E-4AC6-80C0-24AA0330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E69-AB97-4558-841C-9C410980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94AFD-8FD6-4DB7-B91E-291222BB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B32FC-99B0-4E4C-82B2-0194F0B9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F06DA-7422-4A49-8B38-8634345C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9FF71-4C03-4EF1-9492-FB0F6361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83CE2-1AD3-4CB0-AF57-DC39383A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59FC-11A5-4996-BD54-CDAFC7BF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A4C4-D1E3-4168-96DD-7B487911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A6610-20C5-426C-B0A0-D8A2037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24D93-207A-466E-A9E9-CD901401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354E4-CE1C-4A68-8803-DD62BB65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9CA-49D8-412E-A13C-9FC89520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B4F95-8171-4C85-8E6B-63B5A0F7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26543-DE3E-443A-B1B4-CE852E1A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325E1-8D67-4C73-8092-C46B2192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192BE-191B-4DFF-9011-CAF7A52F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1EF9A-61B6-4297-B902-27048EBC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381FD-7081-4B03-AD6E-A936B5CB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874AD-0247-440E-BA7F-710E5D16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91679-3F48-439A-AB75-75AA1D1E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3F41B-1960-405C-BBA7-9A8ADF44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EA8B-BFF9-4BB5-8E40-2BDA6081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F70-7095-4ACD-92F0-21430C37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0EAF4-FF5C-45C4-A830-74C67B9F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CF292-977B-4E87-B444-E3D39280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79755-46C7-49A4-8539-95A2C20E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E86C0-D15E-4B55-BA2A-78066397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D0314-2D46-453C-950C-77FB030E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CFF38-835B-4DD4-929F-A617D5DF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B9E62-AF7D-4568-9BA2-5158CB20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37C13-4329-48B0-9F29-6081F694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604F8-988C-4F5F-A5D1-F8D7B658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5B2DC-E0B6-4F2E-9F97-23AA8316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0A3-5B81-4993-9498-A4F975B1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CB7C1-55D3-48AB-BE38-6ACFC868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22A88-06D5-4E5F-BFC0-D476BF20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AE6D4-B1D9-4DE5-A503-41956E89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E6379-700F-404F-B268-B848B9FA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6DC81-2EEF-4FA8-BE8F-E7B1B44B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D39D6-0B16-41CD-8B03-232ED939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FC540-BA0A-4569-9127-6C07F9B3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BE247-6F03-478F-8FEF-93C99020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F9CD9-E2B5-475F-8CA0-9B60E669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35966-6DA6-43AC-8241-AB5787D7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5E2-321F-498B-8361-A035FF15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326A4-7B89-4216-B9BF-2594EFA2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94387-E08F-4128-B7D9-84490A2F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A0E60-6FED-4550-8CD5-3A8D7F40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DE968-EA8D-479B-82E5-60C85B26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79153-87E6-4873-88F0-ADEA097E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BB2B1-F37E-4F91-A9CF-67BA2474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013A2-ABC8-41BE-8946-D93C179F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C1127-E72C-4EE4-B8B1-2CED8D8C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A545C-CC61-4B97-AB1C-EA674D7E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DB505-0961-46AA-B6FE-2E5F2FA9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21D3-F066-4D09-B5A9-C4EECD23C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45F3-9684-4557-8807-625DDEC5C8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8161-250F-441A-8027-C17D6CB7C3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54AC-5668-4711-A9C0-D831F06D03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1B00-CFBA-4F46-9E7F-7C7E814367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2260-54B8-46AE-9DF6-3514A87F62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AE0C-835A-455E-A667-2BBB10415A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9917-3342-44CF-BA66-EECC0B6F0A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F1AF-E91A-4456-92B9-E09F719DC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C3FE-23FA-4489-B9B1-765EF34181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7C9C-2603-48BF-A20A-6A08CFF107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D67F-93B1-4552-B286-E8B6484A86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10D7-F11B-4F9D-BB10-747DD3B569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DB68-B8BA-48D3-9308-D437C23148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8E84-04F4-4AE8-80A1-687504569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A9BE-1064-4855-B704-E5B76F190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3FD9-FA7B-4BB7-A90F-13F8A8C42A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9804-BB56-4147-9284-7111043B5C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15A8-357D-4CE6-96A3-0121523B87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3FFE-0D1A-46D6-B655-687BBB91AC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E408-A5D5-4CBB-95DD-44E38ED002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AC41-8D10-4828-9DED-0EEAD32951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FA6A-5577-4E14-9516-453496AF01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E21F-1AC2-4CA4-881C-76426C2E1A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3FF3-A5BC-42D1-A10E-CEE2FDA91A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96D8-56DD-4F5D-8ADA-A8C936D596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2617-7C8A-4410-BC85-74DAED7A29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61A4-A15C-4539-BC88-AFE079F80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B887-FFBF-437F-8FE2-037C829ACD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91AD-56BB-44B7-814B-E2F24F31D8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526E-7DB9-440D-B7DB-ACA7B312A2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7430-2A1B-461B-A7CE-DC39B53678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9D16-F4C9-425D-BD08-BC1C8B5B4A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7172-2B4E-4E8B-A4D5-E398AA9761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1D16-F6C0-44CD-B7D2-E9E9428C9F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1562-033D-4297-9146-247D522E6C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1174-56C2-4167-8B2A-9B3C97C567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9022-A300-420C-98F0-39434C6EDA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4984-EBB6-4B15-AE45-C275170D20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67D0-5188-46EA-829F-8353FA374A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590840" y="3143160"/>
            <a:ext cx="5553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452520" y="1143000"/>
            <a:ext cx="8238960" cy="5000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" descr=""/>
          <p:cNvPicPr/>
          <p:nvPr/>
        </p:nvPicPr>
        <p:blipFill>
          <a:blip r:embed="rId2"/>
          <a:stretch/>
        </p:blipFill>
        <p:spPr>
          <a:xfrm>
            <a:off x="2286000" y="242892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5222880" y="239400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7929720" y="2403360"/>
            <a:ext cx="301320" cy="2746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1857240" y="2805120"/>
            <a:ext cx="301680" cy="2746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2714760" y="2795760"/>
            <a:ext cx="301320" cy="2761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4786200" y="285768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7500960" y="278604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3643200" y="3786120"/>
            <a:ext cx="500040" cy="2761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4572000" y="3786120"/>
            <a:ext cx="500040" cy="2761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5572080" y="3786120"/>
            <a:ext cx="500040" cy="2761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3643200" y="4251240"/>
            <a:ext cx="500040" cy="274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4572000" y="4251240"/>
            <a:ext cx="500040" cy="2746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5572080" y="4251240"/>
            <a:ext cx="500040" cy="2746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15"/>
          <a:stretch/>
        </p:blipFill>
        <p:spPr>
          <a:xfrm>
            <a:off x="3643200" y="4716360"/>
            <a:ext cx="500040" cy="276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16"/>
          <a:stretch/>
        </p:blipFill>
        <p:spPr>
          <a:xfrm>
            <a:off x="4572000" y="4716360"/>
            <a:ext cx="500040" cy="276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17"/>
          <a:stretch/>
        </p:blipFill>
        <p:spPr>
          <a:xfrm>
            <a:off x="5572080" y="4716360"/>
            <a:ext cx="500040" cy="276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3" descr=""/>
          <p:cNvPicPr/>
          <p:nvPr/>
        </p:nvPicPr>
        <p:blipFill>
          <a:blip r:embed="rId18"/>
          <a:stretch/>
        </p:blipFill>
        <p:spPr>
          <a:xfrm>
            <a:off x="5118120" y="5097600"/>
            <a:ext cx="24289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1" descr=""/>
          <p:cNvPicPr/>
          <p:nvPr/>
        </p:nvPicPr>
        <p:blipFill>
          <a:blip r:embed="rId1"/>
          <a:stretch/>
        </p:blipFill>
        <p:spPr>
          <a:xfrm>
            <a:off x="1209600" y="1247760"/>
            <a:ext cx="6724800" cy="5038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2"/>
          <a:stretch/>
        </p:blipFill>
        <p:spPr>
          <a:xfrm>
            <a:off x="5214960" y="264312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3"/>
          <a:stretch/>
        </p:blipFill>
        <p:spPr>
          <a:xfrm>
            <a:off x="6715080" y="257184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4"/>
          <a:stretch/>
        </p:blipFill>
        <p:spPr>
          <a:xfrm>
            <a:off x="4572000" y="450072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5"/>
          <a:stretch/>
        </p:blipFill>
        <p:spPr>
          <a:xfrm>
            <a:off x="5715000" y="450072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6"/>
          <a:stretch/>
        </p:blipFill>
        <p:spPr>
          <a:xfrm>
            <a:off x="4929120" y="514368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7"/>
          <a:stretch/>
        </p:blipFill>
        <p:spPr>
          <a:xfrm>
            <a:off x="6072120" y="514368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8"/>
          <a:stretch/>
        </p:blipFill>
        <p:spPr>
          <a:xfrm>
            <a:off x="1928880" y="6000840"/>
            <a:ext cx="342900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1" descr=""/>
          <p:cNvPicPr/>
          <p:nvPr/>
        </p:nvPicPr>
        <p:blipFill>
          <a:blip r:embed="rId1"/>
          <a:stretch/>
        </p:blipFill>
        <p:spPr>
          <a:xfrm>
            <a:off x="1271520" y="2643120"/>
            <a:ext cx="6600960" cy="15717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2"/>
          <a:stretch/>
        </p:blipFill>
        <p:spPr>
          <a:xfrm>
            <a:off x="1571760" y="3060720"/>
            <a:ext cx="7000920" cy="2761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3"/>
          <a:stretch/>
        </p:blipFill>
        <p:spPr>
          <a:xfrm>
            <a:off x="1500120" y="3492360"/>
            <a:ext cx="7000920" cy="276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" descr=""/>
          <p:cNvPicPr/>
          <p:nvPr/>
        </p:nvPicPr>
        <p:blipFill>
          <a:blip r:embed="rId4"/>
          <a:stretch/>
        </p:blipFill>
        <p:spPr>
          <a:xfrm>
            <a:off x="1500120" y="3938760"/>
            <a:ext cx="700092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1" descr=""/>
          <p:cNvPicPr/>
          <p:nvPr/>
        </p:nvPicPr>
        <p:blipFill>
          <a:blip r:embed="rId1"/>
          <a:stretch/>
        </p:blipFill>
        <p:spPr>
          <a:xfrm>
            <a:off x="3862440" y="2166840"/>
            <a:ext cx="1419120" cy="41911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2"/>
          <a:stretch/>
        </p:blipFill>
        <p:spPr>
          <a:xfrm>
            <a:off x="4751280" y="29541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3"/>
          <a:stretch/>
        </p:blipFill>
        <p:spPr>
          <a:xfrm>
            <a:off x="4835520" y="335772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"/>
          <p:cNvPicPr/>
          <p:nvPr/>
        </p:nvPicPr>
        <p:blipFill>
          <a:blip r:embed="rId4"/>
          <a:stretch/>
        </p:blipFill>
        <p:spPr>
          <a:xfrm>
            <a:off x="4743360" y="37558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5"/>
          <a:stretch/>
        </p:blipFill>
        <p:spPr>
          <a:xfrm>
            <a:off x="4743360" y="41846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6"/>
          <a:stretch/>
        </p:blipFill>
        <p:spPr>
          <a:xfrm>
            <a:off x="4743360" y="45975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"/>
          <p:cNvPicPr/>
          <p:nvPr/>
        </p:nvPicPr>
        <p:blipFill>
          <a:blip r:embed="rId7"/>
          <a:stretch/>
        </p:blipFill>
        <p:spPr>
          <a:xfrm>
            <a:off x="4954680" y="50259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" descr=""/>
          <p:cNvPicPr/>
          <p:nvPr/>
        </p:nvPicPr>
        <p:blipFill>
          <a:blip r:embed="rId8"/>
          <a:stretch/>
        </p:blipFill>
        <p:spPr>
          <a:xfrm>
            <a:off x="4863960" y="53989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4" descr=""/>
          <p:cNvPicPr/>
          <p:nvPr/>
        </p:nvPicPr>
        <p:blipFill>
          <a:blip r:embed="rId9"/>
          <a:stretch/>
        </p:blipFill>
        <p:spPr>
          <a:xfrm>
            <a:off x="4765680" y="5827680"/>
            <a:ext cx="3794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30:58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